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8A6F-F936-4EF6-AEB4-30288AFD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DB06-B397-4EBC-9CB7-EC53E258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01C2-5F61-449A-8C8E-1D18000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46CC-17E8-4A4F-8612-DDEC5202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301C-831E-440B-8305-017FE6D95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3F78-0291-4A0C-BEDA-7E1B35EE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8DC8-D2C2-4DBB-9C17-EB757706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A38C-4073-473A-A30C-47428343B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BF6E-CAC3-439A-BB1E-F209AB43B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B970-6827-45E4-AB28-55993C1D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C63B-E431-4BC3-A5CE-C590550EA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F24D-6935-4C27-ABCC-BA20ACEF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991-3A29-4042-904E-6355D080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FF9BE-2F6F-414E-B7AC-6E00267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09E5F-94FA-492D-A7E1-BE3D1647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FC1C-B57C-4FBD-9824-2BB8E68B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07EA-A397-41AF-A932-76B12A4D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C76-7F44-44BE-AB10-623A2B836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DEA1-873B-4D15-BB67-161CF8508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49F-B8CB-4AD2-BF41-594C305A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3D8C-449F-489B-BCA6-E0F2FBD6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0603-3CF3-41F0-A67B-81B0D6B1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40D3-9303-4CDC-AE32-C430F0DF7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45E-25DB-4665-87A3-1A783CB6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2FD-E986-4397-852F-34BEEFA85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ff99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07c00"/>
                </a:gs>
                <a:gs pos="100000">
                  <a:srgbClr val="ff99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ea41e"/>
                </a:gs>
                <a:gs pos="100000">
                  <a:srgbClr val="ff99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FA941-33EF-4162-A365-5822952C18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283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SYRIA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962520" y="3048120"/>
            <a:ext cx="30859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838080"/>
            <a:ext cx="723096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LAND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	</a:t>
            </a: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	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rtile Co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rian Des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phrates R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557532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ECONOM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u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tt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i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28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electric Power – Turkey Prob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08924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PEOPLE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dou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ert Dweller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eppo - N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mascus - Sou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li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9880" y="228600"/>
            <a:ext cx="4872240" cy="32464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495680" y="3733920"/>
            <a:ext cx="4232520" cy="28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b28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HISTORY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6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60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 Ruling Par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19720" y="533520"/>
            <a:ext cx="456084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6:15:57Z</dcterms:created>
  <dc:creator>Joe Dirt</dc:creator>
  <dc:description/>
  <dc:language>en-US</dc:language>
  <cp:lastModifiedBy>Joe Dirt</cp:lastModifiedBy>
  <dcterms:modified xsi:type="dcterms:W3CDTF">2008-01-07T20:48:56Z</dcterms:modified>
  <cp:revision>3</cp:revision>
  <dc:subject/>
  <dc:title>SYRIA</dc:title>
</cp:coreProperties>
</file>